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4390-3FA3-4462-A83E-127C391C1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in this slide will not work, were here as a reminder to pres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D88-E389-43E7-85B9-9A8019BC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B78-A4E1-47BB-9376-2A378442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023-F82C-4211-8ACB-10DFAE04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02E-077C-4916-A98C-3EBC5AAC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0AF5-C3C7-41C0-BBE3-AF0002193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FF12-950F-42B3-9810-A6FDD4CE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0104-9A57-4AD0-9772-3C6232AD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449D-6520-4F83-832D-BA62C34F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56AC-12E2-4AF8-99B3-C2F1F9A4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3715-789F-40A3-8B39-069B4CAC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A1AD-6891-4C4E-A90E-D2B30107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043-3A9E-435C-80F4-53A2EDB9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B843-1E10-434C-BD79-9CA6E320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18DA-DA07-42A2-A9EC-08EF664E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0301-BE8C-41BF-B005-E4AF5D1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7728-1113-404A-BE4A-C212001C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D1E9-DD90-44DD-86D5-162D524C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BD1-9EDF-4CB7-9712-5F74587E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91CE-057B-4871-BEA9-4019675A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04B4-4A7C-4814-96D2-3AA4349E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505-45BD-44E2-BB93-EE285762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2AB-7C28-4A6D-9925-670C77A6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DBD-4B9D-40EF-B5F3-E633ED99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2D0-51E1-4497-9834-D1FCE147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F6E0-3272-42B4-B84E-31A2E6B94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18C3-21A8-4746-A14D-EFE9723E7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COLO-829/?start=140099580;stop=140099660;ref=7;width=800;version=100;flip=0;grid=on;id=0a3149f19297add05e7c13c8700dd1c0;label=http_deskpro14284.dynamic.sanger.ac.uk_9000_das_cosmic_mutation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PD3991/?start=43536896;stop=43536920;ref=5;width=1024;version=100;flip=0;grid=1;id=0a3149f19297add05e7c13c8700dd1c0;label=CMAN-Read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 of GBrowse 1.999 in the Cancer Genome Pro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ran 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2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legen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are random but siz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tect re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depth, hig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much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needs to work with 2x100GB files…. It does it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knowledg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g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IT (CGP it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requent respondents to m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all on the Gbrowse mailing list for putting up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 of the C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- DAS vs. GF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 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me ~ 5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genome ~ 100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screen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ro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mina Next 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COS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me a public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1676520"/>
          <a:ext cx="6858000" cy="4260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roduplex screening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 sequen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IT staff CSA develo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ne day in a meet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going to view next gen seq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12 month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ink about it, can we have a solution within the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 w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ue Of Somatic Mutations In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vailable to all as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your own fron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urrently being updated to latest spec to maintain Ensembl draw functional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 - DAS vs. GFF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s in GBrowse2 (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earc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 showing confirmed variations via GFF3 in 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vial to provide GFF3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probably include config for GBrowse2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S data in COS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me Next Gen bloop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et human ref seq from Ensembl to use for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has PAR regions masked to ‘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rtificially make reads map uniqu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your MT sequence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bank has recently been updated to show the correct s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was sequence for a small village in Africa (will not make it into Ensembl for a while due to build cy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ed to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epth, 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(few lanes ne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ork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3:54:02Z</dcterms:created>
  <dc:creator>Sanger Institute</dc:creator>
  <dc:description/>
  <dc:language>en-US</dc:language>
  <cp:lastModifiedBy>Sanger Institute</cp:lastModifiedBy>
  <dcterms:modified xsi:type="dcterms:W3CDTF">2010-01-15T19:17:26Z</dcterms:modified>
  <cp:revision>8</cp:revision>
  <dc:subject/>
  <dc:title>Use of GBrowse 1.999 in the Cancer Genome Project</dc:title>
</cp:coreProperties>
</file>